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1059-C3E8-44FB-A3CB-87B7F7D91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B5AE-32E0-4CF7-93AE-A8714698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6013-472D-4360-9C58-BAE76C74B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588E-A487-4B6F-A1AD-F6CEDC167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9797-A3CD-4B84-A4D6-78C6CC1CC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DDE0-8184-4F08-8344-513D958B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BA73-35F3-40D1-B541-AFB7CEC5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8880-C4F3-4835-92EC-71BA1CE4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8151-EC65-4F78-9147-525F1685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DDA4-7CEA-447D-91CD-406A1C6C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4CD5D-EFEF-4843-8213-606F36C5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AEA0-705F-498B-9DE9-48570251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607E-0AFA-4551-88B7-4A60A7A6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DBD7-8256-4E6D-A7E4-B1C815F0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1AD19-3D51-4AB1-A7F9-BE85F49A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D7E2-7F3B-4188-B96C-DF883EE39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8C12-F724-434E-A264-A4DEFAC98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A3731-4CD3-4402-8CA6-D12A93C3E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37345-2813-4DD1-B03E-A74A1EAD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AEC52-8E0D-4765-A8D4-2569FC39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62E14-4642-4B0C-9B6A-C3E02C80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F507F-8AC7-4E4F-ACED-FE28A209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F9F9-2E3B-4E69-8CF3-DDD2ABDE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8AE6B-B26A-4E27-B866-28C63547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70088-00B4-4D9A-AB44-5C0ACDEE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2DADE-70F7-4027-9F81-FA22E4A1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69F29-D67E-4F35-97A4-5256C4C7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CA5E7-BBEA-47E1-8870-056305A9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8E513-EDD2-4D56-901D-8FA049823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99C62-CFFA-426D-9F27-5F36D116C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04A62-2678-45A5-BDB6-A343A2AC0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FC388-B8EE-48A2-A6E4-128D4B49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F2D3E-AEAD-433A-9B26-E82E2745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40F4-4B57-4D9A-8C9B-143ED5E0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1B46A-54EC-466E-89E7-A6ADD35E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1E911-FCCF-4539-AC10-A300C5F1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7B1CF-BD1B-4D95-8624-39D4F781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63ADA-0810-4FD3-A814-5E5A50FC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DD442-9520-4DFC-9ABF-089C7D57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A3B0C-A11A-4BE6-9A65-1B019C6B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F97A6-F8C8-4F35-90BB-CE767C26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76713-C3ED-4F96-8A3D-D4133C956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958C2-8595-45F7-8211-870D7F7B8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D38E-C500-4FE3-971B-34694105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9C0B-AED9-45BF-A711-B877C875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293A-58AC-45C7-AF5C-5E6C7166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F5E4-A5F2-42C5-A4C0-1B6A118D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E137-7D09-4B1C-BC71-9944DE8F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05F1-533A-430A-BDAE-95115CCF3F1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AC20-AA4F-4DCE-A0F6-270CF7836D5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12F2-7492-4955-8C8D-B4E8EC10154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DD7A-A898-49DC-A26B-663B25BB8F3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8" descr="http://www.tamaqua.k12.pa.us/62602081574728870/lib/62602081574728870/math01.gif"/>
          <p:cNvPicPr/>
          <p:nvPr/>
        </p:nvPicPr>
        <p:blipFill>
          <a:blip r:embed="rId1"/>
          <a:stretch/>
        </p:blipFill>
        <p:spPr>
          <a:xfrm>
            <a:off x="380880" y="1066680"/>
            <a:ext cx="7925040" cy="5546880"/>
          </a:xfrm>
          <a:prstGeom prst="rect">
            <a:avLst/>
          </a:prstGeom>
          <a:ln w="0">
            <a:noFill/>
          </a:ln>
        </p:spPr>
      </p:pic>
      <p:sp>
        <p:nvSpPr>
          <p:cNvPr id="196" name="TextBox 6"/>
          <p:cNvSpPr/>
          <p:nvPr/>
        </p:nvSpPr>
        <p:spPr>
          <a:xfrm>
            <a:off x="-533520" y="152280"/>
            <a:ext cx="1028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Lucida Handwriting"/>
              </a:rPr>
              <a:t>BASICS OF MATH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7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FINDING THE LCM AND GCF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LCM- Least Common Multipl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Factor the numbers and place them in a chart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Circle the largest product of each set of numbers( prime numbers)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8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LCM AND GCF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Multiply the numbers( the answer will be equal to or greater than the largest number given)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9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GCF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GCF- Greatest Common Factor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Factor the numbers and place the answer in a char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Circle the smallest product in each set of numbers that are in common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CONVERTING FRAC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Conversion #1- to change an improper fraction to a mixed number or whole number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Numerator divided by the denominator  and write the remainder as a fraction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r" rtl="1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onstantia"/>
              </a:rPr>
              <a:t>Conversion #2- convert a mixed number or whole number to an improper fraction</a:t>
            </a:r>
            <a:r>
              <a:rPr b="0" lang="en-US" sz="40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r" rtl="1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onstantia"/>
              </a:rPr>
              <a:t>Multiply the whole number times the denominator and add the numerator. The denominator stays the same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5000" spc="-1" strike="noStrike">
              <a:solidFill>
                <a:srgbClr val="04617b"/>
              </a:solidFill>
              <a:latin typeface="Calibri"/>
              <a:ea typeface="Traditional Arabic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8580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r" rtl="1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onstantia"/>
              </a:rPr>
              <a:t>Conversion #3- Building equivalent fractions</a:t>
            </a:r>
            <a:r>
              <a:rPr b="0" lang="en-US" sz="40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r" rtl="1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onstantia"/>
              </a:rPr>
              <a:t>Divide the new denominator by the original denominator and multiply the answer by the original numerator to place the fraction in higher terms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5000" spc="-1" strike="noStrike">
              <a:solidFill>
                <a:srgbClr val="04617b"/>
              </a:solidFill>
              <a:latin typeface="Calibri"/>
              <a:ea typeface="Traditional Arabic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onstantia"/>
              </a:rPr>
              <a:t>Conversion #4- Simplest form or Reducing fractions</a:t>
            </a:r>
            <a:r>
              <a:rPr b="0" lang="en-US" sz="40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onstantia"/>
              </a:rPr>
              <a:t>Prime factor the numerator and denominator then cancel the common numbers. Multiply the top and bottom to finish reducing</a:t>
            </a:r>
            <a:r>
              <a:rPr b="0" lang="en-US" sz="40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11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ADDITION OF FRAC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Find the LCM(LCD) of the denominators. Use the LCM process, if needed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Place the fractions in higher terms (conv. # 3)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12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ADDI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Add the numerators ONLY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Place the answer in simplest form by using conversions # 1 and/or #4. You may use one , both, or neither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Add the whole numbers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13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SUBTRACTION OF FRACTION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Find the LCM(LCD) of the denominators. Use the LCM process, if needed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Place the fractions in higher terms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 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WHOLE NUMB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Memorize the place values from ones(units) through trillions to see the pattern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Write 26,709 in standard form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Twenty-six thousand seven hundred nin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14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SUBTRA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Subtract the numerators, borrow if needed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Reduce , if needed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Subtract the whole numbers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15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MULTIPLYING FRAC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Change the mixed nos. or whole nos. to improper fractions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 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Early reducing ( cross-cancel)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Multiply numerators and denominators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Change improper to mixed nos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16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DIVISION OF FRAC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Change mixed nos. or whole nos. to improper fractions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 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Change division to multiplication and invert the fraction after the divided by symbol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17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DIVIS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Early-reducing(cross-cancel)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Multiply numerators and denominator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Change an improper fraction to a mixed no. and reduce the proper fraction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18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Order Rel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To compare two fractions with different denominators; find the common denominator, place the fractions in higher terms, then compare the numerators and place the correct inequality symbol between the fractions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19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Order of Opera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Use PEMDAS the same way as Chapter 1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P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- (……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E -5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M- 3*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D - 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A- 5+5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S -  5-3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TextBox 3"/>
          <p:cNvSpPr/>
          <p:nvPr/>
        </p:nvSpPr>
        <p:spPr>
          <a:xfrm>
            <a:off x="1523880" y="3048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1219320" y="37339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70c0"/>
                </a:solidFill>
                <a:latin typeface="Times New Roman"/>
                <a:ea typeface="Majalla UI"/>
              </a:rPr>
              <a:t>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Box 5"/>
          <p:cNvSpPr/>
          <p:nvPr/>
        </p:nvSpPr>
        <p:spPr>
          <a:xfrm>
            <a:off x="1600200" y="3809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20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Solving for the Unknow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If the variable and fraction are connected by addition use subtraction in both sides of the equation to solve the unknown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If they are connected by subtraction use addition on both sides to solve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If the variable and unknown are connected by multiplication use division on both sides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21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Addition and Subtraction of Decimal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Add and subtract decimals just the same as whole numbers and place the decimal point in the answer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22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Multiplying Decimal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Count the total number of place values in all of the numbers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Set the problem up like whole numbers and multiply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Move the decimal point from right to left in the answer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23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Division of Decimal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Make the divisor a whole number by moving the decimal point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Move the decimal point the same number of places on the dividend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Divide the same as whole number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Write five thousand forty-four in standard form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5,044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Write 200,493 in expanded form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200,000+400+90+3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24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Converting a Fraction to a Decimal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To change a fraction to a decimal: NUMERATOR divided by the DENOMINATOR. Round if asked to in the directions or the answer will terminat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Change a Decimal to a Fractio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Write the decimal as a fraction by using a multiple of 10 in the denominator and the number part in the numerator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Reduce the answer if possible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26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Change a Decimal with a Fraction to a Fractio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Drop the decimal point and multiply the mixed number times 1 over 100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27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Ratios and Ra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Ratio- A comparison of two quantities with the same units( apples to apples…etc.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Write the ratio as a fraction in simplest form(reduce) then with a colon (: ) and the word ( to )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Rate- A comparison of two quantities that different units( apples to oranges…etc.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Write as a fraction and reduce then STOP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28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Unit Ra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Unit Rate- A comparison of two quantities that have different units per 1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Write the unit rate as a rate(fraction) then divide: NUMERATOR divided by the DENOMINATOR. This will make the answer per 1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Label the answer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29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Proportion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Proving the proportion True or Not True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Cross-multiply: If the answers are the same it is a True (T) proportion. If the answers are not the same it is a Not True (NT) proportion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Solve for n: Cross-multiply the common numbers and divide the number across from n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rtl="1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30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More Propor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Word problems: Write the two rates with like units in both numerators and like units in both denominators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Cross-multiply and divide the number across from n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31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onverting Between Fractions, Decimals, and Percent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Change a percent to a decimal (then to a fraction)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Move the decimal point TWO places from left to right and drop the percent symbol. Multiply by 0.01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Change the decimal to a fraction and reduce if neede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32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Change a Decimal to a Percent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To change a decimal: Move the decimal point TWO places from left to right or multiply by 100%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If the decimal has a fraction move the decimal point TWO places from left to right and drop the decimal point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33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Change a Fraction to a Percent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Change the fraction to a decimal ( numerator divided by denominator) first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Move the decimal point TWO places from left to right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In the division, if the answer does not terminate by hundredths, write the remainder as a fraction in simplest form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MULYIPLYING WHOLE NUMBE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Memorize the multiplication table up to 12 x 12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Factors- numbers that are multiplied together to equal a PRODUCT( the answer to a multiplication problem)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08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Round to the nearest tenth ( of a percent )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Change the fraction to a decimal to the ten-thousandths place value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Move the decimal point TWO places from left to right and round the percent to the nearest tenth of a percen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34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Change a Percent with a Fraction to a Fractio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If the percent has a fraction in it: Drop the % symbol and multiply by 1 OVER 100 to convert to a fracti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nstantia"/>
              </a:rPr>
              <a:t>From</a:t>
            </a:r>
            <a:r>
              <a:rPr b="0" lang="en-US" sz="6000" spc="-1" strike="noStrike">
                <a:solidFill>
                  <a:srgbClr val="ff0000"/>
                </a:solidFill>
                <a:latin typeface="Constantia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b050"/>
                </a:solidFill>
                <a:uFillTx/>
                <a:latin typeface="Constantia"/>
              </a:rPr>
              <a:t>www.csi.edu/facultyAndStaff_/.../sites/.../</a:t>
            </a:r>
            <a:r>
              <a:rPr b="1" lang="en-US" sz="1800" spc="-1" strike="noStrike" u="sng">
                <a:solidFill>
                  <a:srgbClr val="00b050"/>
                </a:solidFill>
                <a:uFillTx/>
                <a:latin typeface="Constantia"/>
              </a:rPr>
              <a:t>math</a:t>
            </a:r>
            <a:r>
              <a:rPr b="0" lang="en-US" sz="1800" spc="-1" strike="noStrike" u="sng">
                <a:solidFill>
                  <a:srgbClr val="00b050"/>
                </a:solidFill>
                <a:uFillTx/>
                <a:latin typeface="Constantia"/>
              </a:rPr>
              <a:t>%20009%20slides.ppt</a:t>
            </a:r>
            <a:r>
              <a:rPr b="0" lang="en-US" sz="1800" spc="-1" strike="noStrike" u="sng">
                <a:solidFill>
                  <a:srgbClr val="00b050"/>
                </a:solidFill>
                <a:uFillTx/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TextBox 3"/>
          <p:cNvSpPr/>
          <p:nvPr/>
        </p:nvSpPr>
        <p:spPr>
          <a:xfrm>
            <a:off x="838080" y="457200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Lucida Handwriting"/>
              </a:rPr>
              <a:t>By : Manar Al- Shahra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Lucida Handwriting"/>
              </a:rPr>
              <a:t>Grade :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Lucida Handwriting"/>
              </a:rPr>
              <a:t> </a:t>
            </a:r>
            <a:r>
              <a:rPr b="0" lang="en-US" sz="3600" spc="-1" strike="noStrike">
                <a:solidFill>
                  <a:srgbClr val="00b0f0"/>
                </a:solidFill>
                <a:latin typeface="Wingdings"/>
                <a:ea typeface="Wingdings"/>
              </a:rPr>
              <a:t></a:t>
            </a:r>
            <a:r>
              <a:rPr b="0" lang="en-US" sz="3600" spc="-1" strike="noStrike">
                <a:solidFill>
                  <a:srgbClr val="00b0f0"/>
                </a:solidFill>
                <a:latin typeface="Lucida Handwriting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DIVISION OF WHOLE NUMBE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Division is used to separate objects into equal groups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Quotient- the answer to a division problem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Most mistakes in division are made in the subtraction portion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EXPONEN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Base- the number being multiplied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Exponent- the number to the top right of the base telling you how many times the number by itself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ff0000"/>
                </a:solidFill>
                <a:latin typeface="Calibri"/>
              </a:rPr>
              <a:t>ORDER OF OPERATIONS AGREEMENT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Do all operations inside parentheses( other grouping symbols as well)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Solve exponent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Multiply and divide as they occur from left to right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#2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- 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is the number an even number? Yes- start with 2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N0- go to question #3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Add the digits of the number together, if the answer is divisible by 3-Yes- start with 3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990720" y="68580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6.PRIME FACTO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No- go to question #4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Does the number end with a 5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?    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Yes- start with 5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  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N0- start with 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7 and continue until a prime number works ( hit or miss)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1371600" y="53352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6.PRIME FACTO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9T20:47:02Z</dcterms:created>
  <dc:creator>Jim Dawson</dc:creator>
  <dc:description/>
  <dc:language>en-US</dc:language>
  <cp:lastModifiedBy>Abdulaziz Al-Shahrani</cp:lastModifiedBy>
  <dcterms:modified xsi:type="dcterms:W3CDTF">2010-12-23T15:19:04Z</dcterms:modified>
  <cp:revision>71</cp:revision>
  <dc:subject/>
  <dc:title>PowerPoint Presentation</dc:title>
</cp:coreProperties>
</file>